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B5B-1580-4248-BBA2-7C30ADF6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A9C-5008-4FF5-BA6F-46673A49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D48-D22F-4828-85FB-E763A310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988-BCEA-4528-8916-E11292D4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84E-1BDE-4522-ACC8-278FD7FF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4AE-B22D-4F21-BA54-5932E69C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F50-E499-4D2E-B2E5-6CBB172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A11-B3CD-434F-8FD2-EA2C6B0F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F3C-45C7-4386-8E18-A045EEDB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058-EA3E-410B-8977-493E58C4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D39-5CD1-4C19-9DAF-CC25B30C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5AC-5E9D-480F-A130-51ED06B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E1CD-CB61-4A05-8B4F-19F2569D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ony’s PP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Math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use this slide to start my class with a warm up activity while I take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even project homework solutions to have the students self correct homework to sav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 also have my students begin working on a vocabulary exercise that relates to the math lesson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place an example with several steps in a math problem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748040" y="2200320"/>
            <a:ext cx="3838680" cy="3324240"/>
            <a:chOff x="4748040" y="2200320"/>
            <a:chExt cx="3838680" cy="3324240"/>
          </a:xfrm>
        </p:grpSpPr>
        <p:sp>
          <p:nvSpPr>
            <p:cNvPr id="48" name="_s4107"/>
            <p:cNvSpPr/>
            <p:nvPr/>
          </p:nvSpPr>
          <p:spPr>
            <a:xfrm flipV="1">
              <a:off x="6027840" y="2200320"/>
              <a:ext cx="1279440" cy="1108080"/>
            </a:xfrm>
            <a:custGeom>
              <a:avLst/>
              <a:gdLst>
                <a:gd name="textAreaLeft" fmla="*/ 459000 w 1279440"/>
                <a:gd name="textAreaRight" fmla="*/ 820440 w 1279440"/>
                <a:gd name="textAreaTop" fmla="*/ 397440 h 1108080"/>
                <a:gd name="textAreaBottom" fmla="*/ 7106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8"/>
            <p:cNvSpPr/>
            <p:nvPr/>
          </p:nvSpPr>
          <p:spPr>
            <a:xfrm flipV="1">
              <a:off x="5388120" y="3308400"/>
              <a:ext cx="2558880" cy="1108080"/>
            </a:xfrm>
            <a:custGeom>
              <a:avLst/>
              <a:gdLst>
                <a:gd name="textAreaLeft" fmla="*/ 562680 w 2558880"/>
                <a:gd name="textAreaRight" fmla="*/ 1996200 w 2558880"/>
                <a:gd name="textAreaTop" fmla="*/ 243720 h 1108080"/>
                <a:gd name="textAreaBottom" fmla="*/ 86436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09"/>
            <p:cNvSpPr/>
            <p:nvPr/>
          </p:nvSpPr>
          <p:spPr>
            <a:xfrm flipV="1">
              <a:off x="4748040" y="4416480"/>
              <a:ext cx="3838680" cy="1108080"/>
            </a:xfrm>
            <a:custGeom>
              <a:avLst/>
              <a:gdLst>
                <a:gd name="textAreaLeft" fmla="*/ 666360 w 3838680"/>
                <a:gd name="textAreaRight" fmla="*/ 3172320 w 3838680"/>
                <a:gd name="textAreaTop" fmla="*/ 192240 h 1108080"/>
                <a:gd name="textAreaBottom" fmla="*/ 915840 h 11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08:09:14Z</dcterms:created>
  <dc:creator>NAME</dc:creator>
  <dc:description/>
  <dc:language>en-US</dc:language>
  <cp:lastModifiedBy>NAME</cp:lastModifiedBy>
  <dcterms:modified xsi:type="dcterms:W3CDTF">2011-04-16T08:13:23Z</dcterms:modified>
  <cp:revision>2</cp:revision>
  <dc:subject/>
  <dc:title>Anthony’s PPT Presentation</dc:title>
</cp:coreProperties>
</file>